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AA09-17BB-4752-8CC4-E66E9049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8F3F-7ACC-4DCA-A40C-2D4B6E8F6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E3D-F869-48F0-8DDB-B1E76A2C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58C-131A-4C41-9F29-AC40007D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423-BCB4-4AE6-BD5A-806ADAED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5CB-07C7-4190-B7E9-D8E2822D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193-973D-407E-9957-BD6D9303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8EF-82F1-4FC2-A427-FD11E490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FFF-9A1C-436D-9DD9-96B57F36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494-FA20-4511-972C-928B7D7B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FBD-244F-45B8-9853-E74E42BD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AC8-CAD0-4382-A428-DFA8EDAF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2AD-2F58-4DAA-984E-F5F9374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A78-1FD8-440A-912E-2583D7EB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87D-A6E1-4495-8B9D-3775010D9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Por qué yo soy muy alta? :/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52424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5181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soy bien. Yo esta emocionada por mi cumpleaños mañana!        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i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e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181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909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41972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1055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75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9:55Z</dcterms:created>
  <dc:creator>FriscoISD</dc:creator>
  <dc:description/>
  <dc:language>en-US</dc:language>
  <cp:lastModifiedBy>User</cp:lastModifiedBy>
  <dcterms:modified xsi:type="dcterms:W3CDTF">2012-12-06T14:02:30Z</dcterms:modified>
  <cp:revision>107</cp:revision>
  <dc:subject/>
  <dc:title>Profile</dc:title>
</cp:coreProperties>
</file>